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1A5-B697-4C6F-8AF2-726C926A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A4-7046-4BB4-A9D6-A707FE5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75A-9338-43D2-8B22-C5ECA402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03C-AFD3-409E-9F18-3012E714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A3A-2C03-4FE8-8626-4C9B3ECC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3A1-CA03-4B8E-9C98-13C27F06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0E0F-8C34-4912-AEC0-A79ADE63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A06E-168C-4965-8CA4-76244F5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BB1A-136F-4D37-87F0-D33D990E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AC4-AD4D-453A-8C78-8BC13F4A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52EA-F65E-4580-B5B0-52A3796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117-9950-4A40-A254-04C9C29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59C-BF48-4F80-82D2-7B1B2C1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376-9C39-4923-B023-1CA33C1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B4F-E9D4-4BC4-9180-A3877B9B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019-19F1-49F7-A497-7CC74D83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7F0-6BDD-46E1-B210-7E7953B1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13A-33E7-46F6-BDC4-4DAA3D0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A8F-CB07-43CC-9C05-DAE0302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D9A-ABF1-48D0-9F59-D58B8B0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268-A643-481E-B0B7-1B952F9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D51-3074-4026-9534-0AB3CF9C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F84-0A21-4C23-96F0-108AA79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1F4-A424-4466-B491-70E8CAA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4DDE4-0C51-4FC4-9138-C6CF94622253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44F060-A989-418C-9D79-3CDBE0C1C32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628640"/>
          <a:ext cx="8128080" cy="4621320"/>
        </p:xfrm>
        <a:graphic>
          <a:graphicData uri="http://schemas.openxmlformats.org/drawingml/2006/table">
            <a:tbl>
              <a:tblPr/>
              <a:tblGrid>
                <a:gridCol w="2989080"/>
                <a:gridCol w="2781360"/>
                <a:gridCol w="2357640"/>
              </a:tblGrid>
              <a:tr h="4273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6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grafía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ipo de letra, negrita, cur-siva, etc.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tografí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osición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ár-genes, espaciados, columnas,…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ágenes y signo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peciales (numera-ción, emoticonos, etc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ón entre emisor y receptor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jefe-empleado, profesor-alumno, padres-hijos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que se produce la comunicación: formal e informal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nción comunicativa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28640"/>
          <a:ext cx="8502840" cy="4537080"/>
        </p:xfrm>
        <a:graphic>
          <a:graphicData uri="http://schemas.openxmlformats.org/drawingml/2006/table">
            <a:tbl>
              <a:tblPr/>
              <a:tblGrid>
                <a:gridCol w="3176640"/>
                <a:gridCol w="3094200"/>
                <a:gridCol w="2232000"/>
              </a:tblGrid>
              <a:tr h="455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nos de palab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aboración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tre emisor y receptor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ocimiento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l mund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ximidad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erca-nía o distancia emo-cional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hablado, es-crito, en un SMS, en un foro de internet, etc.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628640"/>
          <a:ext cx="8642160" cy="4824720"/>
        </p:xfrm>
        <a:graphic>
          <a:graphicData uri="http://schemas.openxmlformats.org/drawingml/2006/table">
            <a:tbl>
              <a:tblPr/>
              <a:tblGrid>
                <a:gridCol w="1977840"/>
                <a:gridCol w="1749600"/>
                <a:gridCol w="2178000"/>
                <a:gridCol w="273672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eccionar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 que quere-mos comuni-c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r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infor- mación de acuerdo con nuestro propósit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dad temát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odos los enuncia-dos. Un eje temático, sin  des-viarnos de nuestro objetivo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óg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os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dos; sin  contradic-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 y je-rarquí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s ideas, desde las más gene-rales a las más particular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matical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y que tener en cuen-ta las normas gra-maticales de la len-gua emplead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a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emos emplear un léxico, variado, preciso y adecuado a la te-mática del 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S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628640"/>
          <a:ext cx="8643960" cy="4829400"/>
        </p:xfrm>
        <a:graphic>
          <a:graphicData uri="http://schemas.openxmlformats.org/drawingml/2006/table">
            <a:tbl>
              <a:tblPr/>
              <a:tblGrid>
                <a:gridCol w="3960720"/>
                <a:gridCol w="4683240"/>
              </a:tblGrid>
              <a:tr h="482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Í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3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nombre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es, demostrativos, indefinidos, poses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erminantes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ículos, posesivos, demostrat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erbio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iempo, lu-gar, modo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peti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idénticas o de la misma clase gramatica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titu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por otras de significado equivalente o próxim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ipsi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misión de palabras que se sobreentienden por el con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OHESIÓN (II)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13000"/>
          <a:ext cx="8454960" cy="4968720"/>
        </p:xfrm>
        <a:graphic>
          <a:graphicData uri="http://schemas.openxmlformats.org/drawingml/2006/table">
            <a:tbl>
              <a:tblPr/>
              <a:tblGrid>
                <a:gridCol w="2521080"/>
                <a:gridCol w="3394080"/>
                <a:gridCol w="253980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 Y ESCRIT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 DE FUNCIÓN FÁTIC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MOD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ro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erdo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y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eno,..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i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emás, también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ste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o, en cambio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nque, a pesar de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a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, ya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ecuenci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lo tanto, por consiguient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ejemplo, es decir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mpo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ero, luego,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supuesto, natu-ralmente,…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, siempre y cuando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apertura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empezar, en primer lugar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istribución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una parte, por otra (parte)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cierre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de-finitiva, por último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06:58:13Z</dcterms:modified>
  <cp:revision>18</cp:revision>
  <dc:subject/>
  <dc:title>ADECUACIÓN Textos orales y escritos </dc:title>
</cp:coreProperties>
</file>